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A2A7-1A4A-415D-8BB2-7DC3B49D4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4898-DAEA-47BD-8504-0A7DA7FD8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ABD7-FF74-47F5-938A-24DC8B011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2E75-1063-4BE5-A818-8DB7E11C2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96D2-290A-4426-A25D-1C593DECC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362A-6F11-4F5C-91B6-58BE9CCA8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2B47-C314-4E24-AC05-464AB088A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67EE-931A-4C15-B1FA-17C787ECF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555C-1650-476D-9289-40933DEB1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DA91-A77E-4B0B-914E-7F951C1B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758C-AA92-49E0-90B6-A9A41658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FC21-3B44-4FC0-A90F-58E0703A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8F021-9E9B-4490-89E9-1E722E21F9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9144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SDUH Interview Appoin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348160" y="91440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0948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34816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80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3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7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6600" y="826920"/>
            <a:ext cx="4114800" cy="2602080"/>
            <a:chOff x="66600" y="826920"/>
            <a:chExt cx="4114800" cy="2602080"/>
          </a:xfrm>
        </p:grpSpPr>
        <p:sp>
          <p:nvSpPr>
            <p:cNvPr id="91" name=""/>
            <p:cNvSpPr/>
            <p:nvPr/>
          </p:nvSpPr>
          <p:spPr>
            <a:xfrm>
              <a:off x="6660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27672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7632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4952880" y="826920"/>
            <a:ext cx="4114800" cy="2602080"/>
            <a:chOff x="4952880" y="826920"/>
            <a:chExt cx="4114800" cy="2602080"/>
          </a:xfrm>
        </p:grpSpPr>
        <p:sp>
          <p:nvSpPr>
            <p:cNvPr id="96" name=""/>
            <p:cNvSpPr/>
            <p:nvPr/>
          </p:nvSpPr>
          <p:spPr>
            <a:xfrm>
              <a:off x="495288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2436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16300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96260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4952880" y="3570120"/>
            <a:ext cx="4114800" cy="2602080"/>
            <a:chOff x="4952880" y="3570120"/>
            <a:chExt cx="4114800" cy="2602080"/>
          </a:xfrm>
        </p:grpSpPr>
        <p:sp>
          <p:nvSpPr>
            <p:cNvPr id="101" name=""/>
            <p:cNvSpPr/>
            <p:nvPr/>
          </p:nvSpPr>
          <p:spPr>
            <a:xfrm>
              <a:off x="495288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436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816300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496260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76320" y="3570120"/>
            <a:ext cx="4114800" cy="2602080"/>
            <a:chOff x="76320" y="3570120"/>
            <a:chExt cx="4114800" cy="2602080"/>
          </a:xfrm>
        </p:grpSpPr>
        <p:sp>
          <p:nvSpPr>
            <p:cNvPr id="106" name=""/>
            <p:cNvSpPr/>
            <p:nvPr/>
          </p:nvSpPr>
          <p:spPr>
            <a:xfrm>
              <a:off x="7632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780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328644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8604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NSDUH</cp:lastModifiedBy>
  <dcterms:modified xsi:type="dcterms:W3CDTF">2007-05-22T00:18:57Z</dcterms:modified>
  <cp:revision>8</cp:revision>
  <dc:subject/>
  <dc:title>PowerPoint Presentation</dc:title>
</cp:coreProperties>
</file>